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47E3-8244-4EB0-9B33-51B45F81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9B5C-7484-4720-A46B-8D131CB5D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8D9-B788-44B5-B2AC-9E0D1DF3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1FD-6D53-4B98-835B-4EB1687E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3E4-E62C-437E-A75E-D05D4282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5F6-688A-4E0C-83DB-3FCEDA1D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D5B-1308-45E5-BE45-9F4B98A1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4E9-F484-4B90-AE66-14619C84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5BC-0DFC-4A4A-BD04-36FEF847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711-2837-4231-95CF-962360A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79D-1BD9-4CC2-9B27-9CD62AF1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0B6-09F3-4862-9A7F-BCE0476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DEE-BEA0-4F29-9972-09EB58F1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194-892F-43BE-B6EF-123851CA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9777-34D0-4B3F-93A1-6096C45AB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ewspaper2"/>
          <p:cNvPicPr/>
          <p:nvPr/>
        </p:nvPicPr>
        <p:blipFill>
          <a:blip r:embed="rId1"/>
          <a:stretch/>
        </p:blipFill>
        <p:spPr>
          <a:xfrm>
            <a:off x="-380880" y="-276120"/>
            <a:ext cx="9650160" cy="7219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676520" y="1752480"/>
            <a:ext cx="63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WHAT IS CRAWLING IN YOUR BLOODSTREA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22640" y="950760"/>
            <a:ext cx="49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Castellar"/>
                <a:ea typeface="ＭＳ Ｐゴシック"/>
              </a:rPr>
              <a:t>Science 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09480" y="2057400"/>
            <a:ext cx="84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HUMAN CIRCULATORY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733920" y="2743200"/>
            <a:ext cx="29718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The body’s transportation system includes the following parts</a:t>
            </a:r>
            <a:r>
              <a:rPr b="0" lang="en-US" sz="18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: </a:t>
            </a:r>
            <a:r>
              <a:rPr b="0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Heart, lungs, veins, arteries, capillaries, and blo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Do you know what is in your blood</a:t>
            </a:r>
            <a:r>
              <a:rPr b="1" lang="en-US" sz="18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?  </a:t>
            </a:r>
            <a:r>
              <a:rPr b="0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Red cells, white cells, platelets.   There are vitamins, oxygen, and carbon dioxide in your blo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705720" y="2666880"/>
            <a:ext cx="2133360" cy="43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Interesting Facts: </a:t>
            </a:r>
            <a:r>
              <a:rPr b="1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Humans have 10 pints of blood in their body.  That is 7% of the body weig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The blood helps us keep warm, cool, fight infections, and helps get rid of waste from our bod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Your heart started pumping before you were bor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4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If all the blood vessels were laid end-to-end, they would stretch around the Earth more than twice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086600" y="1828800"/>
            <a:ext cx="16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c4c4c"/>
                </a:solidFill>
                <a:latin typeface="Times New Roman"/>
                <a:ea typeface="ＭＳ Ｐゴシック"/>
              </a:rPr>
              <a:t>Grade 5 Room 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null"/>
          <p:cNvPicPr/>
          <p:nvPr/>
        </p:nvPicPr>
        <p:blipFill>
          <a:blip r:embed="rId2"/>
          <a:stretch/>
        </p:blipFill>
        <p:spPr>
          <a:xfrm>
            <a:off x="5638680" y="5029200"/>
            <a:ext cx="95904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http://3.bp.blogspot.com/_voA4LI_mxzE/R4kNyXOq3xI/AAAAAAAAAG4/UBTBQV8BXPA/s320/circulatory+system.gif"/>
          <p:cNvPicPr/>
          <p:nvPr/>
        </p:nvPicPr>
        <p:blipFill>
          <a:blip r:embed="rId3"/>
          <a:stretch/>
        </p:blipFill>
        <p:spPr>
          <a:xfrm>
            <a:off x="380880" y="2819520"/>
            <a:ext cx="3260880" cy="40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http://repairstemcell.files.wordpress.com/2009/02/normal-resting-heart-rate.jpg"/>
          <p:cNvPicPr/>
          <p:nvPr/>
        </p:nvPicPr>
        <p:blipFill>
          <a:blip r:embed="rId4"/>
          <a:stretch/>
        </p:blipFill>
        <p:spPr>
          <a:xfrm>
            <a:off x="3657600" y="4952880"/>
            <a:ext cx="186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2:08:06Z</dcterms:created>
  <dc:creator>Wright</dc:creator>
  <dc:description/>
  <dc:language>en-US</dc:language>
  <cp:lastModifiedBy>LOURDES</cp:lastModifiedBy>
  <dcterms:modified xsi:type="dcterms:W3CDTF">2010-01-05T04:02:19Z</dcterms:modified>
  <cp:revision>11</cp:revision>
  <dc:subject/>
  <dc:title>Slide 1</dc:title>
</cp:coreProperties>
</file>